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0DA0-F252-404D-94CE-AB058349B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332D-0ACF-406B-AE08-D24A461F9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FED2-4488-4D03-920B-57463F08B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145F-28A9-4571-B1EF-64F37546E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34E9-7C33-46F2-87F4-6917CDB6F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BCEC-5D56-472A-A3C9-1498EB211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52DE-B0AD-4E1F-BAAD-0D8801FFD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F8D6-E3EE-458F-BE4D-928547876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6E70-578A-4F5A-9936-BC873026D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9B28-D14B-4649-8452-4A245C6EA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B4DF-BBE3-4BC9-BCB0-A318B1AED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E129-1E39-443F-A62E-0A54ACAB8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C9C66-D254-4DCE-A916-071384FB3CE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Garnock Valley Ex Presidents"/>
          <p:cNvPicPr/>
          <p:nvPr/>
        </p:nvPicPr>
        <p:blipFill>
          <a:blip r:embed="rId1"/>
          <a:stretch/>
        </p:blipFill>
        <p:spPr>
          <a:xfrm>
            <a:off x="452520" y="285840"/>
            <a:ext cx="1206360" cy="11937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Tam O'Shanter Club"/>
          <p:cNvPicPr/>
          <p:nvPr/>
        </p:nvPicPr>
        <p:blipFill>
          <a:blip r:embed="rId2"/>
          <a:stretch/>
        </p:blipFill>
        <p:spPr>
          <a:xfrm>
            <a:off x="2238480" y="285840"/>
            <a:ext cx="987480" cy="1266840"/>
          </a:xfrm>
          <a:prstGeom prst="rect">
            <a:avLst/>
          </a:prstGeom>
          <a:ln w="0">
            <a:noFill/>
          </a:ln>
        </p:spPr>
      </p:pic>
      <p:sp>
        <p:nvSpPr>
          <p:cNvPr id="43" name="Text Box 8"/>
          <p:cNvSpPr/>
          <p:nvPr/>
        </p:nvSpPr>
        <p:spPr>
          <a:xfrm>
            <a:off x="0" y="148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ARNOCK  VALLEY  EX  PRESIDENTS     TAM  O’SHANTER  TOUR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4305240" y="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TRICT 19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6T18:56:55Z</dcterms:created>
  <dc:creator>HP authorized customer</dc:creator>
  <dc:description/>
  <dc:language>en-US</dc:language>
  <cp:lastModifiedBy>John</cp:lastModifiedBy>
  <dcterms:modified xsi:type="dcterms:W3CDTF">2010-02-14T14:26:20Z</dcterms:modified>
  <cp:revision>7</cp:revision>
  <dc:subject/>
  <dc:title>Slide 1</dc:title>
</cp:coreProperties>
</file>